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99C-3CF3-424D-9AAF-47757A66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F6F-AFFA-4E2B-A132-B4DBFC3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9C82B-9245-4894-AB90-5F6CD054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9018-AB66-4280-BAC1-1541E84D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A51DF-23A7-42F9-BC0D-5BF0E11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AE30-0984-489A-9F52-E835ECC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F1D9A-3117-446C-AF51-DAB842FD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5B31-E4A0-48C8-94E7-42E2D19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AC6B6-C938-450C-B201-BF3CD0C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E6379-4FF3-4C68-8C95-458ADD20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904F8-9E68-4267-9CF9-AEB3086B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D96-ED7B-445D-A928-793E2B25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ADA-97CC-453A-BEED-273A31D6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8FB7-C4F3-49C7-BF28-5BE13955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324-9641-43A5-BD48-119FF88C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F86-1546-4BDC-8A41-8BCB0D4D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110D-1B0D-4D0F-82F1-A0AE84F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D60-022B-415E-A1BE-7139F5D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116E-6850-4F54-9A78-1A91C5B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CF40-B499-47F2-BF76-B70AA14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77E-D1A0-49E4-B146-57E4307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F01A-AC11-43FC-B097-9C19497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6DC-5E03-42CD-ABF4-8707E37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E02E-4ACF-4DF2-9BC8-E5CAF4A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0695-965C-43B3-906F-0CF89535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18F-5D42-4412-A7B9-5E8ECEED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40F1-620D-4146-8B1B-B771B903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91B2-E8F5-415A-BE1B-3973FC9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D0FC-6A9B-43FB-AF30-A7CA4DF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7F62-759A-4A01-B86F-1E22EE5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5166-5E74-4AE7-ABB5-ABAFAB2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954-E3CF-4101-83FE-362A91F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ABE9-5433-4E0D-9226-EA2D151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B68F-F8BF-4FE5-8842-913CFD4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6F0C-29B8-4E9E-801A-B2E7496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E074-FD56-4FC7-9107-4FE0C47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C4CB-18F4-4CF4-B240-018E7EC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9A48-78D6-4788-A6DA-0E279277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4E03-B6BE-4377-9E15-7EA8E63F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3F16-65B6-42DC-A5E0-493FE42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5D33-E0BB-4E96-947F-3CCA0D8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ACB4-7CC9-422C-9758-F056CD0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728-0CF8-4294-9E5F-32B3DF2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0EDC-D33A-4124-A220-0D7CE50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8638-BE22-4558-9C74-D1B0CC4A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053A-E9A5-4F58-A410-F2D1ED62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DD0B-DF87-40E8-BE3B-67794D4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FEFB-1BDD-4927-8CC3-EC40048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5A4E-EF36-4673-969D-CD39DDF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8B5D-1A3C-4823-A5A7-898D39E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87AD-2DA5-47CE-AB66-EC30E822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F28F-706F-4459-81E7-24AFB11F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0402-F63B-4395-BDC3-884A3F3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A6C-5200-4B77-91E6-C2BECA2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96B0-5D9B-4DBA-955D-CD64434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05E68-9E66-4823-A8B4-DFCD7F9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70A41-C392-4175-BFDD-E77517D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190C-9039-4739-81D6-4AE9607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F8FB-66B5-4081-8F57-760459C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E167-D29F-43B3-8EAF-D2CB7DE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46E6-EAB8-4227-9665-A77A2E3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AADFF-C1F2-48B6-B8F6-EA8501C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07FF-8EE4-4A58-8EAD-DE7D991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B54A-9C59-435F-AC25-30254E4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9D7-E003-4AC0-ACA6-ECF8F35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F8EE-0416-4F1C-8137-3515D4EB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EAA5-8881-4B57-A619-E9B8692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F5AC-5193-470D-BAD9-22D749D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9A06-A681-4E7F-9A07-9797801D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45DE-A936-4F8E-9BAD-325BE89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A78B-C8C3-419C-9CE9-2E2B5F27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EE705-0C9B-4F2D-8B0E-A6A9CD4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20439-D05B-48C3-98F5-DA251FA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62DE-E8BC-4E82-A93A-638CBE3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B865-296C-4F02-8D0F-B8E8ACC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746-45B6-4ED8-B470-34D336C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BF44-4D6C-4958-9840-3B33FD6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F6AE-5AFA-4EFE-A4F9-87443401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04B6-527B-42A0-A556-4AF95F21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6ACB-64A9-4F95-A9FD-8F07B81F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E2C5-F3A2-4FFD-B7DF-2BBF7F87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28FA-D3E8-4B56-8ACD-4D99C21C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0CDE2-A271-4C54-A06A-AF879A4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8AA3D-5044-4DC0-A170-9CA4F481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2331-E162-4B19-8853-E8CBD1F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9678-DB3D-4CA7-9EFD-F06770C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268-6EBC-4B5E-9F53-B203D6E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3209-81C1-47C7-B929-F27D0B0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16C7-E561-4A04-B7AA-A17202B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4BE7-D1AA-43E3-ABEA-5DAB88C4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5F560-A94D-4837-BC13-92871796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6D8F-D3D5-446B-A516-52CEA425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5B89-FE48-4581-B830-1B66C3D6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C69F0-F77E-48CD-A239-50D69D4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BA1B1-45F0-4914-9789-3259C3F0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4B0B-C342-40DD-92C7-201BA3C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BB067-47A9-493F-A9B3-446046C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D3D-37FD-4403-88C1-004BE45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3CDA9-7626-4788-8619-7373A85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5CB7-5145-4F96-A89B-DB98760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7847-3704-4588-9537-16A4279D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54F4-6851-4096-8213-CFC9294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4AD8-159C-488C-8C82-3183B47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C7D5-90EA-4F5E-ACF0-4D7339A1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7A8C9-8FA5-4F59-9C0E-1648A5DC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16112-7A80-49DD-8356-FA300052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FBD6E-A0D6-45B7-801F-859BA60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A94C1-5F5D-4958-9846-74376C98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A89-C8E8-4533-B452-D579461B8C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B2BC-A077-4D64-A7D4-BC82C55973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763-D1E3-48BB-A655-44EE70AA7F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583C-FBEB-4BB1-917C-C789B394A8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612-86FB-468F-95B6-BC2AD0192F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EE2C-3B69-4F0C-8957-EE18FB009B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C21-41F2-413C-86E5-A25A9B9ECD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7BF0-9C7A-4A12-9E3E-BE881F3DE9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8DE-44C2-4894-8C68-B9800592A3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09480" y="1682640"/>
            <a:ext cx="7944120" cy="3681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5013360"/>
            <a:ext cx="4825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я начальных классов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БОУ «Гимназия № 25» г.Иркутска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Захаренко Надежда Александровна, Солодовникова Лидия Алексеевна, Харламова Евгения Артемов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Объект 2"/>
          <p:cNvSpPr/>
          <p:nvPr/>
        </p:nvSpPr>
        <p:spPr>
          <a:xfrm>
            <a:off x="826920" y="549360"/>
            <a:ext cx="78487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Arial"/>
              </a:rPr>
              <a:t>III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сероссийский конкурс «Моя лучшая методическая разработк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26560" y="1341360"/>
            <a:ext cx="736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V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- уже знал это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+</a:t>
            </a:r>
            <a:r>
              <a:rPr b="1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новое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?</a:t>
            </a:r>
            <a:r>
              <a:rPr b="1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 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не понял, возник вопрос;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  <a:ea typeface="Verdana"/>
              </a:rPr>
              <a:t>–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 </a:t>
            </a:r>
            <a:r>
              <a:rPr b="0" lang="ru-RU" sz="4800" spc="-1" strike="noStrike">
                <a:solidFill>
                  <a:srgbClr val="4e3b30"/>
                </a:solidFill>
                <a:latin typeface="Verdana"/>
                <a:ea typeface="Verdana"/>
              </a:rPr>
              <a:t>- думал иначе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  <p:sp>
        <p:nvSpPr>
          <p:cNvPr id="423" name="Line 6"/>
          <p:cNvSpPr/>
          <p:nvPr/>
        </p:nvSpPr>
        <p:spPr>
          <a:xfrm>
            <a:off x="3635280" y="2997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7"/>
          <p:cNvSpPr/>
          <p:nvPr/>
        </p:nvSpPr>
        <p:spPr>
          <a:xfrm flipV="1">
            <a:off x="1835280" y="5373720"/>
            <a:ext cx="3673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3492360" y="4220640"/>
            <a:ext cx="1366920" cy="100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4788000" y="4149720"/>
            <a:ext cx="244800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2771640" y="6021360"/>
            <a:ext cx="432144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3132000" y="1989000"/>
            <a:ext cx="410400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686800" cy="1122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1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слон и мамонт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2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лев и пещерный лев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пары 3 ряда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- орёл и археоптерикс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1600200"/>
          <a:ext cx="8435880" cy="455616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949480"/>
              </a:tblGrid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Мамон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Сл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ит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62080" y="281160"/>
            <a:ext cx="8424720" cy="127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457200" y="1600200"/>
          <a:ext cx="8435880" cy="4978440"/>
        </p:xfrm>
        <a:graphic>
          <a:graphicData uri="http://schemas.openxmlformats.org/drawingml/2006/table">
            <a:tbl>
              <a:tblPr/>
              <a:tblGrid>
                <a:gridCol w="1882800"/>
                <a:gridCol w="3603600"/>
                <a:gridCol w="2949480"/>
              </a:tblGrid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Мамон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Сл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ерсть, огромные бив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тная, шершавая шкура без волосяного покр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гнутыми бивнями доставали из под снега съедоб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лодые побеги деревьев, трава, пл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3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и льдов, в суровом клима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жарком клима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68360" y="1125360"/>
          <a:ext cx="8229600" cy="4789800"/>
        </p:xfrm>
        <a:graphic>
          <a:graphicData uri="http://schemas.openxmlformats.org/drawingml/2006/table">
            <a:tbl>
              <a:tblPr/>
              <a:tblGrid>
                <a:gridCol w="2232000"/>
                <a:gridCol w="353844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Пещерный 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5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а и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01600" y="0"/>
            <a:ext cx="842472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8360" y="1125360"/>
          <a:ext cx="8229600" cy="5248440"/>
        </p:xfrm>
        <a:graphic>
          <a:graphicData uri="http://schemas.openxmlformats.org/drawingml/2006/table">
            <a:tbl>
              <a:tblPr/>
              <a:tblGrid>
                <a:gridCol w="2232000"/>
                <a:gridCol w="353844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Пещерный 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Ле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инные кинжаловидные зу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льшая грива, золотистый ме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лени, пещерные медв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еб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а и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диноч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хотятся в основном сам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468360" y="1125360"/>
          <a:ext cx="8229600" cy="4821480"/>
        </p:xfrm>
        <a:graphic>
          <a:graphicData uri="http://schemas.openxmlformats.org/drawingml/2006/table">
            <a:tbl>
              <a:tblPr/>
              <a:tblGrid>
                <a:gridCol w="2158920"/>
                <a:gridCol w="3611520"/>
                <a:gridCol w="245916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Археоптерик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Орё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7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6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17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01600" y="0"/>
            <a:ext cx="842472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"/>
          <p:cNvGraphicFramePr/>
          <p:nvPr/>
        </p:nvGraphicFramePr>
        <p:xfrm>
          <a:off x="250920" y="1125360"/>
          <a:ext cx="8642160" cy="5261040"/>
        </p:xfrm>
        <a:graphic>
          <a:graphicData uri="http://schemas.openxmlformats.org/drawingml/2006/table">
            <a:tbl>
              <a:tblPr/>
              <a:tblGrid>
                <a:gridCol w="2089080"/>
                <a:gridCol w="3354480"/>
                <a:gridCol w="319860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Археоптерик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 u="sng">
                          <a:solidFill>
                            <a:srgbClr val="ff0000"/>
                          </a:solidFill>
                          <a:uFillTx/>
                          <a:latin typeface="Franklin Gothic Book"/>
                        </a:rPr>
                        <a:t>Орё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о покрыто перьями, зубы похожи на крокодил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откий хвост, широкие крыл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екомые, мелкие ящер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лкие позвоночные, пад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нездятся на скал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нездятся на земле, скалах или деревь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7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36360" y="-19080"/>
            <a:ext cx="9021600" cy="168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275px-African_Lion_Panthera_leo_Male_Pittsburgh_2800px[1]"/>
          <p:cNvPicPr/>
          <p:nvPr/>
        </p:nvPicPr>
        <p:blipFill>
          <a:blip r:embed="rId2"/>
          <a:stretch/>
        </p:blipFill>
        <p:spPr>
          <a:xfrm>
            <a:off x="324000" y="1773360"/>
            <a:ext cx="6408720" cy="45640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6973920" y="1484280"/>
            <a:ext cx="18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Verdana"/>
                <a:ea typeface="Arial"/>
              </a:rPr>
              <a:t>лев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574200" y="1052640"/>
            <a:ext cx="377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Arial"/>
              </a:rPr>
              <a:t>скорпион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5249520" y="270504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Arial"/>
              </a:rPr>
              <a:t>гаттер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6" descr="PH08207[1]"/>
          <p:cNvPicPr/>
          <p:nvPr/>
        </p:nvPicPr>
        <p:blipFill>
          <a:blip r:embed="rId1"/>
          <a:stretch/>
        </p:blipFill>
        <p:spPr>
          <a:xfrm>
            <a:off x="314280" y="2117880"/>
            <a:ext cx="4103640" cy="2835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PH09116[1]"/>
          <p:cNvPicPr/>
          <p:nvPr/>
        </p:nvPicPr>
        <p:blipFill>
          <a:blip r:embed="rId2"/>
          <a:stretch/>
        </p:blipFill>
        <p:spPr>
          <a:xfrm>
            <a:off x="4762440" y="3835440"/>
            <a:ext cx="40338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8686800" cy="1238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кв0018"/>
          <p:cNvPicPr/>
          <p:nvPr/>
        </p:nvPicPr>
        <p:blipFill>
          <a:blip r:embed="rId2"/>
          <a:stretch/>
        </p:blipFill>
        <p:spPr>
          <a:xfrm>
            <a:off x="4788000" y="1628640"/>
            <a:ext cx="3384360" cy="4902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кв0019"/>
          <p:cNvPicPr/>
          <p:nvPr/>
        </p:nvPicPr>
        <p:blipFill>
          <a:blip r:embed="rId3"/>
          <a:stretch/>
        </p:blipFill>
        <p:spPr>
          <a:xfrm>
            <a:off x="468360" y="1628640"/>
            <a:ext cx="36590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468360" y="1628640"/>
          <a:ext cx="8280360" cy="4321440"/>
        </p:xfrm>
        <a:graphic>
          <a:graphicData uri="http://schemas.openxmlformats.org/drawingml/2006/table">
            <a:tbl>
              <a:tblPr/>
              <a:tblGrid>
                <a:gridCol w="2808360"/>
                <a:gridCol w="3205080"/>
                <a:gridCol w="226692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02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ные;Первые пресмыкаю-щиеся - динозав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ем питалис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выжил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ак изменилис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исчез? 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628560" y="128520"/>
            <a:ext cx="6107040" cy="1901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1682640" y="3643200"/>
            <a:ext cx="603360" cy="2332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3"/>
          <a:stretch/>
        </p:blipFill>
        <p:spPr>
          <a:xfrm>
            <a:off x="2286000" y="3643200"/>
            <a:ext cx="2981160" cy="676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4"/>
          <a:stretch/>
        </p:blipFill>
        <p:spPr>
          <a:xfrm>
            <a:off x="5246640" y="1987560"/>
            <a:ext cx="603360" cy="2332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5"/>
          <a:stretch/>
        </p:blipFill>
        <p:spPr>
          <a:xfrm>
            <a:off x="5850000" y="1987560"/>
            <a:ext cx="2981160" cy="67644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7"/>
          <p:cNvSpPr/>
          <p:nvPr/>
        </p:nvSpPr>
        <p:spPr>
          <a:xfrm>
            <a:off x="4067280" y="4857840"/>
            <a:ext cx="429084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23227"/>
                </a:solidFill>
                <a:latin typeface="Franklin Gothic Book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6"/>
          <a:stretch/>
        </p:blipFill>
        <p:spPr>
          <a:xfrm>
            <a:off x="3286080" y="257184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7"/>
          <a:stretch/>
        </p:blipFill>
        <p:spPr>
          <a:xfrm>
            <a:off x="6643800" y="728640"/>
            <a:ext cx="780840" cy="1258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8"/>
          <a:stretch/>
        </p:blipFill>
        <p:spPr>
          <a:xfrm>
            <a:off x="928800" y="4694400"/>
            <a:ext cx="780840" cy="12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3" name="Picture 3" descr="Вин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605520" y="380880"/>
            <a:ext cx="520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e0000"/>
                </a:solidFill>
                <a:latin typeface="Georgia"/>
                <a:ea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AutoShape 5">
            <a:hlinkClick r:id="rId2" action="ppaction://hlinksldjump"/>
          </p:cNvPr>
          <p:cNvSpPr/>
          <p:nvPr/>
        </p:nvSpPr>
        <p:spPr>
          <a:xfrm>
            <a:off x="179280" y="6019920"/>
            <a:ext cx="2335320" cy="649080"/>
          </a:xfrm>
          <a:custGeom>
            <a:avLst/>
            <a:gdLst>
              <a:gd name="textAreaLeft" fmla="*/ 41760 w 2335320"/>
              <a:gd name="textAreaRight" fmla="*/ 2293560 w 23353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7683" h="21600">
                <a:moveTo>
                  <a:pt x="0" y="0"/>
                </a:moveTo>
                <a:lnTo>
                  <a:pt x="77683" y="0"/>
                </a:lnTo>
                <a:lnTo>
                  <a:pt x="77683" y="21600"/>
                </a:lnTo>
                <a:lnTo>
                  <a:pt x="0" y="21600"/>
                </a:lnTo>
                <a:close/>
              </a:path>
              <a:path fill="lightenLess" w="77683" h="21600">
                <a:moveTo>
                  <a:pt x="0" y="0"/>
                </a:moveTo>
                <a:lnTo>
                  <a:pt x="77683" y="0"/>
                </a:lnTo>
                <a:lnTo>
                  <a:pt x="76283" y="1400"/>
                </a:lnTo>
                <a:lnTo>
                  <a:pt x="1400" y="1400"/>
                </a:lnTo>
                <a:close/>
              </a:path>
              <a:path fill="darken" w="77683" h="21600">
                <a:moveTo>
                  <a:pt x="77683" y="0"/>
                </a:moveTo>
                <a:lnTo>
                  <a:pt x="77683" y="21600"/>
                </a:lnTo>
                <a:lnTo>
                  <a:pt x="76283" y="20200"/>
                </a:lnTo>
                <a:lnTo>
                  <a:pt x="76283" y="1400"/>
                </a:lnTo>
                <a:close/>
              </a:path>
              <a:path fill="darkenLess" w="77683" h="21600">
                <a:moveTo>
                  <a:pt x="77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83" y="20200"/>
                </a:lnTo>
                <a:close/>
              </a:path>
              <a:path fill="lighten" w="77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569c5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8705880" cy="2206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8145920[1]"/>
          <p:cNvPicPr/>
          <p:nvPr/>
        </p:nvPicPr>
        <p:blipFill>
          <a:blip r:embed="rId2"/>
          <a:stretch/>
        </p:blipFill>
        <p:spPr>
          <a:xfrm>
            <a:off x="684360" y="1413000"/>
            <a:ext cx="662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-92160" y="-139680"/>
            <a:ext cx="9102960" cy="2011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1131[1]"/>
          <p:cNvPicPr/>
          <p:nvPr/>
        </p:nvPicPr>
        <p:blipFill>
          <a:blip r:embed="rId2"/>
          <a:stretch/>
        </p:blipFill>
        <p:spPr>
          <a:xfrm>
            <a:off x="611280" y="1628640"/>
            <a:ext cx="67690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19080" y="-146160"/>
            <a:ext cx="8645400" cy="2011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G:\уроки 1 В\февраль\открытый урок в четверг\Dinazor_Resimleri21.jpg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-171360" y="-212760"/>
            <a:ext cx="9156600" cy="220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i[7]"/>
          <p:cNvPicPr/>
          <p:nvPr/>
        </p:nvPicPr>
        <p:blipFill>
          <a:blip r:embed="rId2"/>
          <a:stretch/>
        </p:blipFill>
        <p:spPr>
          <a:xfrm>
            <a:off x="1332000" y="1557360"/>
            <a:ext cx="6624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11280" y="1628640"/>
          <a:ext cx="7921440" cy="4530960"/>
        </p:xfrm>
        <a:graphic>
          <a:graphicData uri="http://schemas.openxmlformats.org/drawingml/2006/table">
            <a:tbl>
              <a:tblPr/>
              <a:tblGrid>
                <a:gridCol w="2219400"/>
                <a:gridCol w="3533760"/>
                <a:gridCol w="216828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211560"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68360" y="1628640"/>
          <a:ext cx="8280360" cy="4321440"/>
        </p:xfrm>
        <a:graphic>
          <a:graphicData uri="http://schemas.openxmlformats.org/drawingml/2006/table">
            <a:tbl>
              <a:tblPr/>
              <a:tblGrid>
                <a:gridCol w="2590920"/>
                <a:gridCol w="3422520"/>
                <a:gridCol w="2266920"/>
              </a:tblGrid>
              <a:tr h="1319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02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ные;Первые пресмыкаю-щиеся - динозав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86868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24000" y="1484280"/>
          <a:ext cx="8496000" cy="4670280"/>
        </p:xfrm>
        <a:graphic>
          <a:graphicData uri="http://schemas.openxmlformats.org/drawingml/2006/table">
            <a:tbl>
              <a:tblPr/>
              <a:tblGrid>
                <a:gridCol w="2881080"/>
                <a:gridCol w="3621240"/>
                <a:gridCol w="1993680"/>
              </a:tblGrid>
              <a:tr h="687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н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Хотим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Узн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826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Животные древние и современ-ные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ервые пресмыкаю-щиеся - динозав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ем питалис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выжил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ак изменилис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Кто исчез?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cd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20:55Z</dcterms:created>
  <dc:creator>Notebook 6</dc:creator>
  <dc:description/>
  <dc:language>en-US</dc:language>
  <cp:lastModifiedBy>jary_snow13@mail.ru</cp:lastModifiedBy>
  <dcterms:modified xsi:type="dcterms:W3CDTF">2022-01-12T14:37:38Z</dcterms:modified>
  <cp:revision>23</cp:revision>
  <dc:subject/>
  <dc:title>Наблюдаю мир вокруг меня</dc:title>
</cp:coreProperties>
</file>